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70"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1246-FD1B-4C8E-A2E0-81613B395B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4920" y="704880"/>
            <a:ext cx="4692600" cy="3519360"/>
          </a:xfrm>
          <a:prstGeom prst="rect">
            <a:avLst/>
          </a:prstGeom>
          <a:ln w="0">
            <a:noFill/>
          </a:ln>
        </p:spPr>
      </p:sp>
      <p:sp>
        <p:nvSpPr>
          <p:cNvPr id="20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D110-8ADE-47FF-BE3D-F74D6F0B3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4920" y="704880"/>
            <a:ext cx="4692600" cy="3519360"/>
          </a:xfrm>
          <a:prstGeom prst="rect">
            <a:avLst/>
          </a:prstGeom>
          <a:ln w="0">
            <a:noFill/>
          </a:ln>
        </p:spPr>
      </p:sp>
      <p:sp>
        <p:nvSpPr>
          <p:cNvPr id="22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Activities and Change in Net Assets presents the revenues received and expenses paid throughout the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generous members and contributors have given $1,346,887 last year and $1,209,328 in 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convention revenue and expenses are on the even-numbered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of other revenues: interest, promotional material sales, publications (LP News a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otal revenues of $1,580,137 for 2014 and $1,128,326 for 20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services: affiliate support, ballot access, brand development, campaign support, campus outreach, litigation support, media relations, member communications, and outr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ing services: conventions, management &amp; general expenses, and fundraising &amp; donor acqui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expenses were $1,386,647 in 2014 and $1,115,479 la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revenues and expenses gives the change in net as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assets increased $193,490 in 2014 and $12,848 in 20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Change in Net Assets to (next slide).</a:t>
            </a:r>
            <a:endParaRPr b="0" lang="en-US" sz="1200" spc="-1" strike="noStrike">
              <a:solidFill>
                <a:srgbClr val="000000"/>
              </a:solidFill>
              <a:latin typeface="Calibri"/>
            </a:endParaRPr>
          </a:p>
        </p:txBody>
      </p:sp>
      <p:sp>
        <p:nvSpPr>
          <p:cNvPr id="22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AD97-D755-4EFC-B9EF-DC863C8F2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4920" y="704880"/>
            <a:ext cx="4692600" cy="3519360"/>
          </a:xfrm>
          <a:prstGeom prst="rect">
            <a:avLst/>
          </a:prstGeom>
          <a:ln w="0">
            <a:noFill/>
          </a:ln>
        </p:spPr>
      </p:sp>
      <p:sp>
        <p:nvSpPr>
          <p:cNvPr id="23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ments are the non-cash assets and include current expected bequests, prepaid expenses, accrued payroll &amp; vacation expe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se adjustments to get the net cash provided by operating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NC also had financing activities of accumulated depreciation and non-current expected bequ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ng the financing activities to the net cash gives a decrease in cash of in 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ng these to the cash at the beginning of the year to get the cash at the end of the year. These match the cash and cash equivalents on the Statement of Financial Position.</a:t>
            </a:r>
            <a:endParaRPr b="0" lang="en-US" sz="1200" spc="-1" strike="noStrike">
              <a:solidFill>
                <a:srgbClr val="000000"/>
              </a:solidFill>
              <a:latin typeface="Calibri"/>
            </a:endParaRPr>
          </a:p>
        </p:txBody>
      </p:sp>
      <p:sp>
        <p:nvSpPr>
          <p:cNvPr id="23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4AAF-3992-4353-AD2B-DCDAE385BE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4920" y="704880"/>
            <a:ext cx="4692600" cy="3519360"/>
          </a:xfrm>
          <a:prstGeom prst="rect">
            <a:avLst/>
          </a:prstGeom>
          <a:ln w="0">
            <a:noFill/>
          </a:ln>
        </p:spPr>
      </p:sp>
      <p:sp>
        <p:nvSpPr>
          <p:cNvPr id="23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revenue in blue, expenses in red, and surplus in green for 2011 to 2015. Of course the increase in two-year cycle is primarily from conventions and elections being on the even-numbered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D416-4235-4A7A-8A1D-0A23740B61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4920" y="704880"/>
            <a:ext cx="4692600" cy="3519360"/>
          </a:xfrm>
          <a:prstGeom prst="rect">
            <a:avLst/>
          </a:prstGeom>
          <a:ln w="0">
            <a:noFill/>
          </a:ln>
        </p:spPr>
      </p:sp>
      <p:sp>
        <p:nvSpPr>
          <p:cNvPr id="23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All, Folks!</a:t>
            </a:r>
            <a:endParaRPr b="0" lang="en-US" sz="1200" spc="-1" strike="noStrike">
              <a:solidFill>
                <a:srgbClr val="000000"/>
              </a:solidFill>
              <a:latin typeface="Calibri"/>
            </a:endParaRPr>
          </a:p>
        </p:txBody>
      </p:sp>
      <p:sp>
        <p:nvSpPr>
          <p:cNvPr id="23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6C21-0DEE-4E32-AA78-00CCD0812F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4920" y="704880"/>
            <a:ext cx="4692600" cy="3519360"/>
          </a:xfrm>
          <a:prstGeom prst="rect">
            <a:avLst/>
          </a:prstGeom>
          <a:ln w="0">
            <a:noFill/>
          </a:ln>
        </p:spPr>
      </p:sp>
      <p:sp>
        <p:nvSpPr>
          <p:cNvPr id="20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legate’s binders include a Membership Report for the end of April. This graph is updated to include the number of donors as of Monday, May 23. While correlation does not necessary imply causality, I call this the “Trump-Clinton Effect”. The other two parties put up two doofuses with record unfavorable ratings, and we see a surge in interest and support for the Libertarian Party this year. As of Monday, there were 14,444 active donors, with 706 new donors in April and 1292 new donors so far this month. We have 13,716 sustaining members, that is those who have certified they oppose the initiation of force for social or political goals and have donated at least $25 in the past twelve months.</a:t>
            </a:r>
            <a:endParaRPr b="0" lang="en-US" sz="1200" spc="-1" strike="noStrike">
              <a:solidFill>
                <a:srgbClr val="000000"/>
              </a:solidFill>
              <a:latin typeface="Calibri"/>
            </a:endParaRPr>
          </a:p>
        </p:txBody>
      </p:sp>
      <p:sp>
        <p:nvSpPr>
          <p:cNvPr id="20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B43F-E631-466A-83D2-CF23AE6DD2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4920" y="704880"/>
            <a:ext cx="4692600" cy="3519360"/>
          </a:xfrm>
          <a:prstGeom prst="rect">
            <a:avLst/>
          </a:prstGeom>
          <a:ln w="0">
            <a:noFill/>
          </a:ln>
        </p:spPr>
      </p:sp>
      <p:sp>
        <p:nvSpPr>
          <p:cNvPr id="20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officer members of the Libertarian National Committee appoint the members of the Audit 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ng on the Audit Committee members are Aaron Starr, Gary Johnson from Austin Texas not to be confused with the former governor of New Mexico, and M Carling. Thank these gentlemen for their work on the Audit 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dit Committee selected Gelman, Rosenberg &amp; Freedman to be the independent auditor for 2014 and 2013 financial statements, which is in your bi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or’s opinion is the financial statements present fairly, in all material respects, the financial position of the Committee as of December 31, 2014 and December 31,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m Frye &amp; Company, CPAs was engaged last month to audit the 2015 books, so we do not yet have audited statements for last years. The unaudited 2015 financial statements are in your binder.</a:t>
            </a:r>
            <a:endParaRPr b="0" lang="en-US" sz="1200" spc="-1" strike="noStrike">
              <a:solidFill>
                <a:srgbClr val="000000"/>
              </a:solidFill>
              <a:latin typeface="Calibri"/>
            </a:endParaRPr>
          </a:p>
        </p:txBody>
      </p:sp>
      <p:sp>
        <p:nvSpPr>
          <p:cNvPr id="20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44F4-9EAC-4A5B-8A8A-548433489A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4920" y="704880"/>
            <a:ext cx="4692600" cy="3519360"/>
          </a:xfrm>
          <a:prstGeom prst="rect">
            <a:avLst/>
          </a:prstGeom>
          <a:ln w="0">
            <a:noFill/>
          </a:ln>
        </p:spPr>
      </p:sp>
      <p:sp>
        <p:nvSpPr>
          <p:cNvPr id="21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Calibri"/>
              </a:rPr>
              <a:t>Two checking accounts, one for unrestricted funds and the other for temporarily restricted funds comprise the cash and cash equivalents. </a:t>
            </a:r>
            <a:endParaRPr b="0" lang="en-US" sz="1200" spc="-1" strike="noStrike">
              <a:solidFill>
                <a:srgbClr val="000000"/>
              </a:solidFill>
              <a:latin typeface="Calibri"/>
            </a:endParaRPr>
          </a:p>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Calibri"/>
              </a:rPr>
              <a:t>The 2013 cash included $322,434 of restricted funds in the Office Space Acquisition Fund.</a:t>
            </a:r>
            <a:endParaRPr b="0" lang="en-US" sz="1200" spc="-1" strike="noStrike">
              <a:solidFill>
                <a:srgbClr val="000000"/>
              </a:solidFill>
              <a:latin typeface="Calibri"/>
            </a:endParaRPr>
          </a:p>
        </p:txBody>
      </p:sp>
      <p:sp>
        <p:nvSpPr>
          <p:cNvPr id="21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7BDD-FB80-44DA-9615-A8180D8A72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4920" y="704880"/>
            <a:ext cx="4692600" cy="3519360"/>
          </a:xfrm>
          <a:prstGeom prst="rect">
            <a:avLst/>
          </a:prstGeom>
          <a:ln w="0">
            <a:noFill/>
          </a:ln>
        </p:spPr>
      </p:sp>
      <p:sp>
        <p:nvSpPr>
          <p:cNvPr id="21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and building for the headquarters facility are the major assets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fixed assets after depreciation were $875,396 at the end of 2014, and $861,590 at the end of 2015.</a:t>
            </a:r>
            <a:endParaRPr b="0" lang="en-US" sz="1200" spc="-1" strike="noStrike">
              <a:solidFill>
                <a:srgbClr val="000000"/>
              </a:solidFill>
              <a:latin typeface="Calibri"/>
            </a:endParaRPr>
          </a:p>
        </p:txBody>
      </p:sp>
      <p:sp>
        <p:nvSpPr>
          <p:cNvPr id="21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F711-EBD9-4F6A-ABBA-3CF6B321D6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4920" y="704880"/>
            <a:ext cx="4692600" cy="3519360"/>
          </a:xfrm>
          <a:prstGeom prst="rect">
            <a:avLst/>
          </a:prstGeom>
          <a:ln w="0">
            <a:noFill/>
          </a:ln>
        </p:spPr>
      </p:sp>
      <p:sp>
        <p:nvSpPr>
          <p:cNvPr id="21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4, the LNC was informed that Joseph Shaber named the LNC in his will. He left the party $235,5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C has ruled that an individual’s limit in donations to a national party committee applies whether the donor is alive or dead. The LNC received $33,400 in 2014 and had the remainder placed into a trust so the legal limit can be taken out each year. The trustee informed us of the final amount of the bequest in 2015, which is why the amount changed from 2014 to 20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on the subject of bequests; I doubt anyone here wants to leave any of their hard-earned money to the IRS after they pass away. If you leave a traditional IRA or 401(k) account to a person other than your spouse, they have to start taking out minimum distributions the following year or take all of the funds out within five years, no mater how young they are, and pay income tax on it. Instead, if you leave your IRA or 401(k) to a not-for-profit, like the Libertarian Party, that does not pay taxes on donations, then the IRS gets none of your money. All you have to do is change the beneficiary for the account to Libertarian National Committee, 1440 Duke St, Alexandria, VA22314, EIN 52-1170810.</a:t>
            </a:r>
            <a:endParaRPr b="0" lang="en-US" sz="1200" spc="-1" strike="noStrike">
              <a:solidFill>
                <a:srgbClr val="000000"/>
              </a:solidFill>
              <a:latin typeface="Calibri"/>
            </a:endParaRPr>
          </a:p>
        </p:txBody>
      </p:sp>
      <p:sp>
        <p:nvSpPr>
          <p:cNvPr id="21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2F92-5ED4-4221-939D-8170933A85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4920" y="704880"/>
            <a:ext cx="4692600" cy="3519360"/>
          </a:xfrm>
          <a:prstGeom prst="rect">
            <a:avLst/>
          </a:prstGeom>
          <a:ln w="0">
            <a:noFill/>
          </a:ln>
        </p:spPr>
      </p:sp>
      <p:sp>
        <p:nvSpPr>
          <p:cNvPr id="21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up these assets, get the totals of $446,594  in 2013, $1,131,596 in 2014, and $1,150,099 in 2015.</a:t>
            </a:r>
            <a:endParaRPr b="0" lang="en-US" sz="1200" spc="-1" strike="noStrike">
              <a:solidFill>
                <a:srgbClr val="000000"/>
              </a:solidFill>
              <a:latin typeface="Calibri"/>
            </a:endParaRPr>
          </a:p>
        </p:txBody>
      </p:sp>
      <p:sp>
        <p:nvSpPr>
          <p:cNvPr id="22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74C2-B005-464F-9321-F743C4AF69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4920" y="704880"/>
            <a:ext cx="4692600" cy="3519360"/>
          </a:xfrm>
          <a:prstGeom prst="rect">
            <a:avLst/>
          </a:prstGeom>
          <a:ln w="0">
            <a:noFill/>
          </a:ln>
        </p:spPr>
      </p:sp>
      <p:sp>
        <p:nvSpPr>
          <p:cNvPr id="22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abilities are the current portion of the mortgage, accounts payable, accrued liabilities, accrued salaries and related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liabilities are the mortgage (net of the current portion) and capital lease. For 2014, $485,108 mortgage; $13,823 Capital Lease. For 2015, $461,955 mortgage and $15,157 capital l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and cash equivalents includes temporarily restricted assets, which are earmarked for college campus programs, radio ad project, legal offense project, and in 2013 had $322,434 for Office Space Acqui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the Total Assets and the Liabilities is the Net Assets. This is more commonly referred to as Equity for corporations, but since the LNC does not have shareholders to own the equity, the auditors calls it Net As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 net assets to the total liabilities and get the totals that match the total assets from the previous slide.</a:t>
            </a:r>
            <a:endParaRPr b="0" lang="en-US" sz="1200" spc="-1" strike="noStrike">
              <a:solidFill>
                <a:srgbClr val="000000"/>
              </a:solidFill>
              <a:latin typeface="Calibri"/>
            </a:endParaRPr>
          </a:p>
        </p:txBody>
      </p:sp>
      <p:sp>
        <p:nvSpPr>
          <p:cNvPr id="22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3DDB-2B10-4659-9D6F-F998E26DBD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4920" y="704880"/>
            <a:ext cx="4692600" cy="3519360"/>
          </a:xfrm>
          <a:prstGeom prst="rect">
            <a:avLst/>
          </a:prstGeom>
          <a:ln w="0">
            <a:noFill/>
          </a:ln>
        </p:spPr>
      </p:sp>
      <p:sp>
        <p:nvSpPr>
          <p:cNvPr id="22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assets, liabilities, and net assets from 2011 to 2015. Of course the increase in assets and liabilities in 2014 is from purchasing the office facility and its mortgage.</a:t>
            </a:r>
            <a:endParaRPr b="0" lang="en-US" sz="1200" spc="-1" strike="noStrike">
              <a:solidFill>
                <a:srgbClr val="000000"/>
              </a:solidFill>
              <a:latin typeface="Calibri"/>
            </a:endParaRPr>
          </a:p>
        </p:txBody>
      </p:sp>
      <p:sp>
        <p:nvSpPr>
          <p:cNvPr id="22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AFE4-44E3-4730-8880-79EDAB8366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C728E-8280-469F-A4A0-5E7E596E2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8AD88-B9ED-4BAD-81EC-518DE7AD6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08CB8-8B4C-447D-87D2-E7669B605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BF4A0-3A99-4A1F-AB89-741F76940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30E2A-7CC2-40D5-ACC7-EC824E083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22F12-B396-4B74-9DBD-2148F3CC5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9D04D-0571-4746-8FF0-47507545A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DFD40-20BF-49BD-88D9-B90C1F348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49AFD-6E77-4C03-A47F-93C530E95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B610B-BC02-42DA-BC40-3F3E26C77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C65FC-0F01-4740-A74B-CB4A43B39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2D6F-4D52-4855-899F-FC5B54104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A3680-9554-4DC4-A6D1-0298A1A5F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98772-85C2-4FB2-A785-5FED5F824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FE817-166B-4C83-80C7-7E4FDC7C8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61198-60A7-4405-B043-BDC1DC2CF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94FD2-4C11-4B93-B687-83BC37E0A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24257-D837-4A09-8957-77EB12450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05A91-FE27-4C1D-B277-8CD897FEC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C4063B-4A6D-47BC-B8BD-5685CE091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34C21-D82F-44FF-B458-E9B7C497F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1E2C0-C342-447C-8F69-75B654A30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BB460-7598-4506-9199-2C791C7B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A54FB-0300-48EE-984B-C4E12EF23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29D5F-3F49-49F0-B277-D8C687660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2913B-2210-481A-9E83-23D2D0858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11B53-549A-4D6C-967F-7998A1D14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2DDC0-D49A-45AE-84E8-9600557A8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3A0C5-B075-42E2-8FB8-4271057B64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89B0DB-D295-4500-A6D3-D707735CAF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E9D20-CF67-4532-8784-0CBE210C52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1BC40-FADD-4FDB-BC08-2806C4FA8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E06CC-375F-43ED-A53B-4EF265144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B1C5-B05B-4D1A-8A64-8A12B35A6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837A7-0409-4063-B6D0-9870F7747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F7CB6-5552-4679-BF15-1CBBDD9D0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34F5B-C5C7-4976-96A1-12A460C9F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38FE7-4E3E-4E74-B723-F78A14BB9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45E74-21A6-47CF-AFEC-B7BAD090C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5510A-299B-4F80-9BCB-8686519B4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6572C-2875-4E9F-8A95-1ABBAA165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F76C1-BC56-4C36-B33D-B0943CAB6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BC8F39-ED2E-4C8B-A9A4-BCF8E25DE0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A8C0E-4F81-434B-82F7-9899D53B7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33684-7F58-49CE-8A7E-E237BF64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BB44-7592-4D9A-AC83-16D8A1A4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47C8-C315-4554-87E7-B45048F3D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EE07-9675-4A38-973E-AF6E5125D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F188-7E0D-4B82-849C-C38EBCB911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549360" y="274680"/>
            <a:ext cx="488880" cy="1177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CFCA-91AB-44CF-8196-7735BAF352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
          <p:cNvPicPr/>
          <p:nvPr/>
        </p:nvPicPr>
        <p:blipFill>
          <a:blip r:embed="rId2"/>
          <a:stretch/>
        </p:blipFill>
        <p:spPr>
          <a:xfrm>
            <a:off x="549360" y="274680"/>
            <a:ext cx="488880" cy="1177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B0E3-1A2F-4F4A-A4A3-8FAF9CBCEF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549360" y="274680"/>
            <a:ext cx="488880" cy="117792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5903-1B7C-400D-B722-94FFFF9315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 of the Treasurer</a:t>
            </a:r>
            <a:endParaRPr b="0" lang="en-US" sz="4400" spc="-1" strike="noStrike">
              <a:solidFill>
                <a:srgbClr val="000000"/>
              </a:solidFill>
              <a:latin typeface="Calibri"/>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im Hagan</a:t>
            </a:r>
            <a:endParaRPr b="0" lang="en-US" sz="3200" spc="-1" strike="noStrike">
              <a:solidFill>
                <a:srgbClr val="000000"/>
              </a:solidFill>
              <a:latin typeface="Calibri"/>
            </a:endParaRPr>
          </a:p>
        </p:txBody>
      </p:sp>
      <p:pic>
        <p:nvPicPr>
          <p:cNvPr id="176" name="Picture 3" descr=""/>
          <p:cNvPicPr/>
          <p:nvPr/>
        </p:nvPicPr>
        <p:blipFill>
          <a:blip r:embed="rId1"/>
          <a:stretch/>
        </p:blipFill>
        <p:spPr>
          <a:xfrm>
            <a:off x="0" y="0"/>
            <a:ext cx="9144000" cy="1782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Activities and </a:t>
            </a:r>
            <a:br>
              <a:rPr sz="4000"/>
            </a:br>
            <a:r>
              <a:rPr b="0" lang="en-US" sz="4000" spc="-1" strike="noStrike">
                <a:solidFill>
                  <a:srgbClr val="000000"/>
                </a:solidFill>
                <a:latin typeface="Calibri"/>
              </a:rPr>
              <a:t>Change in Net Assets</a:t>
            </a:r>
            <a:endParaRPr b="0" lang="en-US" sz="4000" spc="-1" strike="noStrike">
              <a:solidFill>
                <a:srgbClr val="000000"/>
              </a:solidFill>
              <a:latin typeface="Calibri"/>
            </a:endParaRPr>
          </a:p>
        </p:txBody>
      </p:sp>
      <p:graphicFrame>
        <p:nvGraphicFramePr>
          <p:cNvPr id="194" name=""/>
          <p:cNvGraphicFramePr/>
          <p:nvPr/>
        </p:nvGraphicFramePr>
        <p:xfrm>
          <a:off x="457200" y="1600200"/>
          <a:ext cx="8229600" cy="5089680"/>
        </p:xfrm>
        <a:graphic>
          <a:graphicData uri="http://schemas.openxmlformats.org/drawingml/2006/table">
            <a:tbl>
              <a:tblPr/>
              <a:tblGrid>
                <a:gridCol w="4114800"/>
                <a:gridCol w="1371600"/>
                <a:gridCol w="1371600"/>
                <a:gridCol w="1371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ibutions and Member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84,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9,32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14,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ques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5,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n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7,8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Other Revenu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2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2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otal Revenu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91,17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80,1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28,3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Program Services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8,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3,59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4,9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Supporting Services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67,84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3,0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0,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otal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56,05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86,64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15,47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ss on disposal of invent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nge in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3,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3,4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84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Assets at Beginning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3,3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6,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9,96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Assets at End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6,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79,96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92,81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ment of Cash Flows</a:t>
            </a:r>
            <a:endParaRPr b="0" lang="en-US" sz="4400" spc="-1" strike="noStrike">
              <a:solidFill>
                <a:srgbClr val="000000"/>
              </a:solidFill>
              <a:latin typeface="Calibri"/>
            </a:endParaRPr>
          </a:p>
        </p:txBody>
      </p:sp>
      <p:graphicFrame>
        <p:nvGraphicFramePr>
          <p:cNvPr id="196" name=""/>
          <p:cNvGraphicFramePr/>
          <p:nvPr/>
        </p:nvGraphicFramePr>
        <p:xfrm>
          <a:off x="457200" y="1600200"/>
          <a:ext cx="8229600" cy="4149720"/>
        </p:xfrm>
        <a:graphic>
          <a:graphicData uri="http://schemas.openxmlformats.org/drawingml/2006/table">
            <a:tbl>
              <a:tblPr/>
              <a:tblGrid>
                <a:gridCol w="4572000"/>
                <a:gridCol w="1219320"/>
                <a:gridCol w="1295280"/>
                <a:gridCol w="114300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nge in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3,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3,4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84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18288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justments to reconcile change in net assets to net cash (used) provided by operating activities</a:t>
                      </a:r>
                      <a:endParaRPr b="0" lang="en-US" sz="1800" spc="-1" strike="noStrike">
                        <a:solidFill>
                          <a:srgbClr val="000000"/>
                        </a:solidFill>
                        <a:latin typeface="Calibri"/>
                      </a:endParaRPr>
                    </a:p>
                  </a:txBody>
                  <a:tcPr anchor="t" marL="18288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6,3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2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9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cash provided by operating activ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9,4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1,8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cash used by investing activ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6,53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cash used by financing activ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5,16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decrease) increase in cash and cash equival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9,2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75,12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2,52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 and cash equivalents at beginning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7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2,9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sh and Cash Equivalents at End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92,9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8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1,3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 and Expenses Summary</a:t>
            </a:r>
            <a:endParaRPr b="0" lang="en-US" sz="4400" spc="-1" strike="noStrike">
              <a:solidFill>
                <a:srgbClr val="000000"/>
              </a:solidFill>
              <a:latin typeface="Calibri"/>
            </a:endParaRPr>
          </a:p>
        </p:txBody>
      </p:sp>
      <p:pic>
        <p:nvPicPr>
          <p:cNvPr id="198" name="Chart 6" descr=""/>
          <p:cNvPicPr/>
          <p:nvPr/>
        </p:nvPicPr>
        <p:blipFill>
          <a:blip r:embed="rId1"/>
          <a:stretch/>
        </p:blipFill>
        <p:spPr>
          <a:xfrm>
            <a:off x="566640" y="1292400"/>
            <a:ext cx="8004240" cy="47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199" name="Picture 3" descr=""/>
          <p:cNvPicPr/>
          <p:nvPr/>
        </p:nvPicPr>
        <p:blipFill>
          <a:blip r:embed="rId1"/>
          <a:stretch/>
        </p:blipFill>
        <p:spPr>
          <a:xfrm>
            <a:off x="0" y="2362320"/>
            <a:ext cx="9144000" cy="17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Donors</a:t>
            </a:r>
            <a:endParaRPr b="0" lang="en-US" sz="4400" spc="-1" strike="noStrike">
              <a:solidFill>
                <a:srgbClr val="000000"/>
              </a:solidFill>
              <a:latin typeface="Calibri"/>
            </a:endParaRPr>
          </a:p>
        </p:txBody>
      </p:sp>
      <p:pic>
        <p:nvPicPr>
          <p:cNvPr id="178" name="Content Placeholder 4" descr=""/>
          <p:cNvPicPr/>
          <p:nvPr/>
        </p:nvPicPr>
        <p:blipFill>
          <a:blip r:embed="rId1"/>
          <a:stretch/>
        </p:blipFill>
        <p:spPr>
          <a:xfrm>
            <a:off x="457200" y="1523880"/>
            <a:ext cx="82296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udit Committee Memb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ron Starr, Chai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ry Johns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 Carl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ibertarian National Committee 2013 and 2014 financial statements audited by Gelman, Rosenberg &amp; Freedm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uditor’s opinion is the financial statements present fairly the financial position of the Committee as of December 31, 2014 and December 31, 2013.</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rye &amp; Company, CPAs engaged to audit the 2015 financial statemen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Current Assets</a:t>
            </a:r>
            <a:endParaRPr b="0" lang="en-US" sz="4000" spc="-1" strike="noStrike">
              <a:solidFill>
                <a:srgbClr val="000000"/>
              </a:solidFill>
              <a:latin typeface="Calibri"/>
            </a:endParaRPr>
          </a:p>
        </p:txBody>
      </p:sp>
      <p:graphicFrame>
        <p:nvGraphicFramePr>
          <p:cNvPr id="182" name=""/>
          <p:cNvGraphicFramePr/>
          <p:nvPr/>
        </p:nvGraphicFramePr>
        <p:xfrm>
          <a:off x="566640" y="1600200"/>
          <a:ext cx="7967880" cy="1854360"/>
        </p:xfrm>
        <a:graphic>
          <a:graphicData uri="http://schemas.openxmlformats.org/drawingml/2006/table">
            <a:tbl>
              <a:tblPr/>
              <a:tblGrid>
                <a:gridCol w="4005360"/>
                <a:gridCol w="1295280"/>
                <a:gridCol w="144792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 and cash equival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2,9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1,3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quests receivable, curr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74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paid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3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3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Curren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33,03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3,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6,6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Fixed Assets</a:t>
            </a:r>
            <a:endParaRPr b="0" lang="en-US" sz="4000" spc="-1" strike="noStrike">
              <a:solidFill>
                <a:srgbClr val="000000"/>
              </a:solidFill>
              <a:latin typeface="Calibri"/>
            </a:endParaRPr>
          </a:p>
        </p:txBody>
      </p:sp>
      <p:graphicFrame>
        <p:nvGraphicFramePr>
          <p:cNvPr id="184" name=""/>
          <p:cNvGraphicFramePr/>
          <p:nvPr/>
        </p:nvGraphicFramePr>
        <p:xfrm>
          <a:off x="457200" y="1600200"/>
          <a:ext cx="8153280" cy="4246560"/>
        </p:xfrm>
        <a:graphic>
          <a:graphicData uri="http://schemas.openxmlformats.org/drawingml/2006/table">
            <a:tbl>
              <a:tblPr/>
              <a:tblGrid>
                <a:gridCol w="4038480"/>
                <a:gridCol w="1371600"/>
                <a:gridCol w="1371600"/>
                <a:gridCol w="13716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7,88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7,88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1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1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quip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ni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8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87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87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equipment and computer softw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44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7,44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44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ing improv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69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 lease ass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2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7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7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Accumulated depreciation and amortiz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7,7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4,3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0,35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Fixed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75,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61,5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Other Assets</a:t>
            </a:r>
            <a:endParaRPr b="0" lang="en-US" sz="4000" spc="-1" strike="noStrike">
              <a:solidFill>
                <a:srgbClr val="000000"/>
              </a:solidFill>
              <a:latin typeface="Calibri"/>
            </a:endParaRPr>
          </a:p>
        </p:txBody>
      </p:sp>
      <p:graphicFrame>
        <p:nvGraphicFramePr>
          <p:cNvPr id="186" name=""/>
          <p:cNvGraphicFramePr/>
          <p:nvPr/>
        </p:nvGraphicFramePr>
        <p:xfrm>
          <a:off x="457200" y="1600200"/>
          <a:ext cx="8229600" cy="1482840"/>
        </p:xfrm>
        <a:graphic>
          <a:graphicData uri="http://schemas.openxmlformats.org/drawingml/2006/table">
            <a:tbl>
              <a:tblPr/>
              <a:tblGrid>
                <a:gridCol w="4114800"/>
                <a:gridCol w="1371600"/>
                <a:gridCol w="1371600"/>
                <a:gridCol w="1371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osi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quest receivable, non-curr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2,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8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Other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2,7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1,8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Total Assets</a:t>
            </a:r>
            <a:endParaRPr b="0" lang="en-US" sz="4000" spc="-1" strike="noStrike">
              <a:solidFill>
                <a:srgbClr val="000000"/>
              </a:solidFill>
              <a:latin typeface="Calibri"/>
            </a:endParaRPr>
          </a:p>
        </p:txBody>
      </p:sp>
      <p:graphicFrame>
        <p:nvGraphicFramePr>
          <p:cNvPr id="188" name=""/>
          <p:cNvGraphicFramePr/>
          <p:nvPr/>
        </p:nvGraphicFramePr>
        <p:xfrm>
          <a:off x="457200" y="1600200"/>
          <a:ext cx="8115480" cy="1854360"/>
        </p:xfrm>
        <a:graphic>
          <a:graphicData uri="http://schemas.openxmlformats.org/drawingml/2006/table">
            <a:tbl>
              <a:tblPr/>
              <a:tblGrid>
                <a:gridCol w="4038480"/>
                <a:gridCol w="1371600"/>
                <a:gridCol w="1333800"/>
                <a:gridCol w="1371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3,03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6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xed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5,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1,5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2,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8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46,59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31,5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50,0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Liabilities and Net Assets</a:t>
            </a:r>
            <a:endParaRPr b="0" lang="en-US" sz="4000" spc="-1" strike="noStrike">
              <a:solidFill>
                <a:srgbClr val="000000"/>
              </a:solidFill>
              <a:latin typeface="Calibri"/>
            </a:endParaRPr>
          </a:p>
        </p:txBody>
      </p:sp>
      <p:graphicFrame>
        <p:nvGraphicFramePr>
          <p:cNvPr id="190" name=""/>
          <p:cNvGraphicFramePr/>
          <p:nvPr/>
        </p:nvGraphicFramePr>
        <p:xfrm>
          <a:off x="457200" y="1600200"/>
          <a:ext cx="8229600" cy="2967120"/>
        </p:xfrm>
        <a:graphic>
          <a:graphicData uri="http://schemas.openxmlformats.org/drawingml/2006/table">
            <a:tbl>
              <a:tblPr/>
              <a:tblGrid>
                <a:gridCol w="4114800"/>
                <a:gridCol w="1371600"/>
                <a:gridCol w="1447920"/>
                <a:gridCol w="1295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 Liabil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1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6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1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ng-Term Liabil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8,9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1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Liabil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1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1,62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7,2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restricted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59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6,3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5,5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mporarily Restricted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8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9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2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Net Assets (Equ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6,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79,96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92,8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Liabilities and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46,59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31,5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50,0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 Sheet Graph</a:t>
            </a:r>
            <a:endParaRPr b="0" lang="en-US" sz="4400" spc="-1" strike="noStrike">
              <a:solidFill>
                <a:srgbClr val="000000"/>
              </a:solidFill>
              <a:latin typeface="Calibri"/>
            </a:endParaRPr>
          </a:p>
        </p:txBody>
      </p:sp>
      <p:pic>
        <p:nvPicPr>
          <p:cNvPr id="192" name="Chart 7" descr=""/>
          <p:cNvPicPr/>
          <p:nvPr/>
        </p:nvPicPr>
        <p:blipFill>
          <a:blip r:embed="rId1"/>
          <a:stretch/>
        </p:blipFill>
        <p:spPr>
          <a:xfrm>
            <a:off x="371520" y="1365120"/>
            <a:ext cx="8394480" cy="473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0T06:51:43Z</dcterms:created>
  <dc:creator>Tim</dc:creator>
  <dc:description/>
  <dc:language>en-US</dc:language>
  <cp:lastModifiedBy>Tim</cp:lastModifiedBy>
  <cp:lastPrinted>2016-05-23T21:18:58Z</cp:lastPrinted>
  <dcterms:modified xsi:type="dcterms:W3CDTF">2018-04-28T23:38:34Z</dcterms:modified>
  <cp:revision>79</cp:revision>
  <dc:subject/>
  <dc:title>Report of the Treasurer</dc:title>
</cp:coreProperties>
</file>